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41E-5801-4FA4-8642-8785F435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3C9C-068A-4DEF-9762-348436EA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69D2-D3DA-4B99-A5FE-0872844E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F83-9098-432F-8F63-6E072215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29A0-1B37-43F1-A067-989A4892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9A17-89A3-4756-BF86-65824C4F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62F4-C77A-4002-8EA7-37D88CAA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44BE-D268-4C97-8D4F-FC53292D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AAC5-50C9-4C31-8DFA-6F4FD7FE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B46D-8498-46E5-8FC8-02DDC38A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DA7E-7160-4222-AA26-B3741D5D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B549-3256-45FD-8CD5-C3C9F8A5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5B02-1A05-4BE3-9863-171477C8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7A30-93C6-4830-902C-D0041C7B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8CDA-4EB4-4385-AFCD-DB8F8965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3C62-34B4-4FDE-A7F7-F533899B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B7B3-D46F-4A74-959C-9643E394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19EB-BC44-4C52-A3B8-D7078857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E57D-293F-4864-897A-E8844CDA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495-47AE-4092-A2F2-1CB7F695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83A-595A-41F4-8D9F-CCBB2EBC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899-C7FC-4F88-A297-38A61398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9F59-4639-4F7A-8456-3519CCD5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E60-18A6-49D3-B367-A5795065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6666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B7E0-F9A5-4B9A-BFBC-38AAFFA006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2900-B95D-468C-A388-9C5ADC323C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49016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Herman Melville</a:t>
            </a:r>
            <a:br>
              <a:rPr sz="6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ugust 19 1819 - September 28 189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000" y="3733560"/>
            <a:ext cx="78483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lville’s Life and 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“True” Tale of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 Captain Amasa Delano’s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Narrative of Voyages and Travel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(181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(185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44640"/>
            <a:ext cx="8153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ate of the action moves from February 1805 to August 1799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Scudder says this is accidental, Franklin says it is deliberate.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n Aranda is no longer thrown overboard; he is stripped of his flesh and mounted as a skeleton on the prow over the message “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eguid vuestro jef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” – “Follow your lead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nito Cereno is no longer responsible for trying to stab the slave; instead it is Bartholomew Barlo, a fictional sailor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see </a:t>
            </a:r>
            <a:r>
              <a:rPr b="0" i="1" lang="en-GB" sz="2800" spc="-1" strike="noStrike">
                <a:solidFill>
                  <a:srgbClr val="666633"/>
                </a:solidFill>
                <a:latin typeface="Times New Roman"/>
              </a:rPr>
              <a:t>Benito Cereno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 2425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153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though Captain Delano originally boarded the ship to make a profit, this has become a minor issue in comparison to his saving of the ship. Melville also omits the argument the two men had over salvage righ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st of the descriptions of the Spanish ship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6633"/>
                </a:solidFill>
                <a:latin typeface="Times New Roman"/>
              </a:rPr>
              <a:t>[For more details on the changes, see Franklin 529-31 and Lea </a:t>
            </a:r>
            <a:r>
              <a:rPr b="0" lang="en-US" sz="2600" spc="-1" strike="noStrike">
                <a:solidFill>
                  <a:srgbClr val="666633"/>
                </a:solidFill>
                <a:latin typeface="Times New Roman"/>
              </a:rPr>
              <a:t>Newman’s </a:t>
            </a:r>
            <a:r>
              <a:rPr b="0" i="1" lang="en-US" sz="2600" spc="-1" strike="noStrike">
                <a:solidFill>
                  <a:srgbClr val="666633"/>
                </a:solidFill>
                <a:latin typeface="Times New Roman"/>
              </a:rPr>
              <a:t>A Reader’s Guide to the Short Stories of Herman Melville</a:t>
            </a:r>
            <a:r>
              <a:rPr b="0" lang="en-US" sz="2600" spc="-1" strike="noStrike">
                <a:solidFill>
                  <a:srgbClr val="666633"/>
                </a:solidFill>
                <a:latin typeface="Times New Roman"/>
              </a:rPr>
              <a:t>. Boston: G. K. Hall, 1986. 98-100.]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153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igious Conc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estant vs. Cathol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cial &amp; National T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ack vs. Wh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rican vs. Spani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of “Power Dynamic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bo / Captain Benito Cer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tain Benito Cereno / Captain Amasa Del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tain Amasa Delano / his c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328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tain Benito Cer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3213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imes New Roman"/>
              </a:rPr>
              <a:t>Captain Amasa Del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31417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Times New Roman"/>
              </a:rPr>
              <a:t>Captain Amasa Del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11280" y="3213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Times New Roman"/>
              </a:rPr>
              <a:t>The Nar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3068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Times New Roman"/>
              </a:rPr>
              <a:t>Herman Melvil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2276640"/>
            <a:ext cx="2376360" cy="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258920" y="2707920"/>
            <a:ext cx="0" cy="252108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11280" y="2708280"/>
            <a:ext cx="4465800" cy="244944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40000" y="2781360"/>
            <a:ext cx="360360" cy="72216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40871E-006 L 0.26388 0.29402 E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05556E-006 2.92864E-006 L -0.2007 0.30468 E">
                                      <p:cBhvr>
                                        <p:cTn id="33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-1.40871E-006 L -0.28733 -0.16821 E">
                                      <p:cBhvr>
                                        <p:cTn id="3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path" presetID="56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05556E-006 2.92864E-006 L 0.3033 -0.15779 E">
                                      <p:cBhvr>
                                        <p:cTn id="3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773360"/>
            <a:ext cx="81532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s of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s a Game of Ch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icking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litting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2708280"/>
            <a:ext cx="80643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Text (noun): 2b. The very words and sentences as originally written:  […] the body of any treatise, the authoritative or formal part as distinguished from notes, appendices, introduction, and other explanatory or supplementary matter. […] L.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tus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 (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u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-stem) style, tissue of a literary work (Quintilian), lit. that which is woven, web, texture, f.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t-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, ppl. stem of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- re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 to weave.] (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OED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Life and Works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54068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rn in New York to an affluent (but not wealthy) family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19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ther dies, leaving family in debt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3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rts a maritime life on a voyage to Liverpool, then joins a whaling ship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39-184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umps ship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42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but travels around Tahiti and Honolul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346480" cy="3457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227640" y="5373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lville (in 186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Life and Work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424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Returns to Boston. 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[1844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Marries Elizabeth Shaw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 [184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alcolm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9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oves to Pittsfield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tanwix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1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lizabeth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3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rances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5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rip to Liverpool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6-5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ectures around the U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7-6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844640"/>
            <a:ext cx="4249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6666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Times New Roman"/>
              </a:rPr>
              <a:t>Typee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[1846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Omoo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Mardi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Redbur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9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White-Jacket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Moby Dick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1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Pierre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2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Isle of the Cros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3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Israel Potter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5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Piazza Tale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6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Confidence Man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Primarily shifts to poetry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“True” Tale of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tain Amasa Delano’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1817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92000" y="1844640"/>
            <a:ext cx="5256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rote the account in ch. XVIII of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o defend his actions concerning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d logs from his ship,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erseveranc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legal depositions, and official documents to reinforce his case against Don Benito Cere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2892600" cy="3745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558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om inside cover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0240" y="3573360"/>
            <a:ext cx="222120" cy="792360"/>
          </a:xfrm>
          <a:custGeom>
            <a:avLst/>
            <a:gdLst/>
            <a:ahLst/>
            <a:rect l="l" t="t" r="r" b="b"/>
            <a:pathLst>
              <a:path w="140" h="499">
                <a:moveTo>
                  <a:pt x="140" y="499"/>
                </a:moveTo>
                <a:lnTo>
                  <a:pt x="23" y="277"/>
                </a:lnTo>
                <a:cubicBezTo>
                  <a:pt x="0" y="224"/>
                  <a:pt x="2" y="225"/>
                  <a:pt x="2" y="179"/>
                </a:cubicBezTo>
                <a:cubicBezTo>
                  <a:pt x="2" y="133"/>
                  <a:pt x="20" y="37"/>
                  <a:pt x="25" y="0"/>
                </a:cubicBezTo>
              </a:path>
            </a:pathLst>
          </a:custGeom>
          <a:noFill/>
          <a:ln w="12600">
            <a:solidFill>
              <a:srgbClr val="99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77080" y="2060640"/>
            <a:ext cx="719280" cy="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32720" y="213372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intended by Benito Ceren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3520" y="4508640"/>
            <a:ext cx="986040" cy="1249200"/>
          </a:xfrm>
          <a:custGeom>
            <a:avLst/>
            <a:gdLst/>
            <a:ahLst/>
            <a:rect l="l" t="t" r="r" b="b"/>
            <a:pathLst>
              <a:path w="621" h="787">
                <a:moveTo>
                  <a:pt x="356" y="0"/>
                </a:moveTo>
                <a:cubicBezTo>
                  <a:pt x="399" y="23"/>
                  <a:pt x="607" y="100"/>
                  <a:pt x="614" y="140"/>
                </a:cubicBezTo>
                <a:cubicBezTo>
                  <a:pt x="621" y="180"/>
                  <a:pt x="458" y="188"/>
                  <a:pt x="398" y="240"/>
                </a:cubicBezTo>
                <a:cubicBezTo>
                  <a:pt x="339" y="292"/>
                  <a:pt x="287" y="390"/>
                  <a:pt x="260" y="455"/>
                </a:cubicBezTo>
                <a:cubicBezTo>
                  <a:pt x="233" y="520"/>
                  <a:pt x="233" y="585"/>
                  <a:pt x="238" y="631"/>
                </a:cubicBezTo>
                <a:cubicBezTo>
                  <a:pt x="243" y="677"/>
                  <a:pt x="305" y="705"/>
                  <a:pt x="291" y="731"/>
                </a:cubicBezTo>
                <a:cubicBezTo>
                  <a:pt x="277" y="757"/>
                  <a:pt x="201" y="787"/>
                  <a:pt x="153" y="785"/>
                </a:cubicBezTo>
                <a:cubicBezTo>
                  <a:pt x="105" y="783"/>
                  <a:pt x="32" y="730"/>
                  <a:pt x="0" y="71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645000"/>
            <a:ext cx="210960" cy="1968480"/>
          </a:xfrm>
          <a:custGeom>
            <a:avLst/>
            <a:gdLst/>
            <a:ahLst/>
            <a:rect l="l" t="t" r="r" b="b"/>
            <a:pathLst>
              <a:path w="133" h="1240">
                <a:moveTo>
                  <a:pt x="133" y="1240"/>
                </a:moveTo>
                <a:cubicBezTo>
                  <a:pt x="115" y="1183"/>
                  <a:pt x="29" y="1007"/>
                  <a:pt x="23" y="899"/>
                </a:cubicBezTo>
                <a:cubicBezTo>
                  <a:pt x="17" y="791"/>
                  <a:pt x="103" y="699"/>
                  <a:pt x="100" y="591"/>
                </a:cubicBezTo>
                <a:cubicBezTo>
                  <a:pt x="97" y="483"/>
                  <a:pt x="16" y="351"/>
                  <a:pt x="8" y="253"/>
                </a:cubicBezTo>
                <a:cubicBezTo>
                  <a:pt x="0" y="155"/>
                  <a:pt x="43" y="53"/>
                  <a:pt x="52" y="0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3068640"/>
            <a:ext cx="7192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3213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lated 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y Benito Cereno (under dure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85080" y="3068640"/>
            <a:ext cx="719280" cy="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79880" y="3575160"/>
            <a:ext cx="282600" cy="801720"/>
          </a:xfrm>
          <a:custGeom>
            <a:avLst/>
            <a:gdLst/>
            <a:ahLst/>
            <a:rect l="l" t="t" r="r" b="b"/>
            <a:pathLst>
              <a:path w="178" h="505">
                <a:moveTo>
                  <a:pt x="178" y="474"/>
                </a:moveTo>
                <a:cubicBezTo>
                  <a:pt x="173" y="443"/>
                  <a:pt x="163" y="345"/>
                  <a:pt x="147" y="290"/>
                </a:cubicBezTo>
                <a:cubicBezTo>
                  <a:pt x="131" y="235"/>
                  <a:pt x="96" y="189"/>
                  <a:pt x="83" y="146"/>
                </a:cubicBezTo>
                <a:cubicBezTo>
                  <a:pt x="70" y="103"/>
                  <a:pt x="82" y="0"/>
                  <a:pt x="68" y="32"/>
                </a:cubicBezTo>
                <a:cubicBezTo>
                  <a:pt x="54" y="64"/>
                  <a:pt x="0" y="267"/>
                  <a:pt x="1" y="336"/>
                </a:cubicBezTo>
                <a:cubicBezTo>
                  <a:pt x="2" y="405"/>
                  <a:pt x="56" y="418"/>
                  <a:pt x="74" y="446"/>
                </a:cubicBezTo>
                <a:cubicBezTo>
                  <a:pt x="92" y="474"/>
                  <a:pt x="102" y="493"/>
                  <a:pt x="109" y="505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77080" y="4653000"/>
            <a:ext cx="71928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04000" y="472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intended by slav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24240" y="2998800"/>
            <a:ext cx="2185920" cy="2766960"/>
          </a:xfrm>
          <a:custGeom>
            <a:avLst/>
            <a:gdLst/>
            <a:ahLst/>
            <a:rect l="l" t="t" r="r" b="b"/>
            <a:pathLst>
              <a:path w="1377" h="1743">
                <a:moveTo>
                  <a:pt x="15" y="906"/>
                </a:moveTo>
                <a:cubicBezTo>
                  <a:pt x="18" y="961"/>
                  <a:pt x="34" y="1138"/>
                  <a:pt x="33" y="1237"/>
                </a:cubicBezTo>
                <a:cubicBezTo>
                  <a:pt x="32" y="1336"/>
                  <a:pt x="0" y="1423"/>
                  <a:pt x="10" y="1498"/>
                </a:cubicBezTo>
                <a:cubicBezTo>
                  <a:pt x="20" y="1573"/>
                  <a:pt x="32" y="1652"/>
                  <a:pt x="95" y="1690"/>
                </a:cubicBezTo>
                <a:cubicBezTo>
                  <a:pt x="158" y="1728"/>
                  <a:pt x="349" y="1743"/>
                  <a:pt x="387" y="1728"/>
                </a:cubicBezTo>
                <a:cubicBezTo>
                  <a:pt x="425" y="1713"/>
                  <a:pt x="321" y="1647"/>
                  <a:pt x="325" y="1598"/>
                </a:cubicBezTo>
                <a:cubicBezTo>
                  <a:pt x="329" y="1549"/>
                  <a:pt x="332" y="1529"/>
                  <a:pt x="410" y="1436"/>
                </a:cubicBezTo>
                <a:cubicBezTo>
                  <a:pt x="488" y="1343"/>
                  <a:pt x="717" y="1151"/>
                  <a:pt x="794" y="1037"/>
                </a:cubicBezTo>
                <a:cubicBezTo>
                  <a:pt x="871" y="923"/>
                  <a:pt x="814" y="825"/>
                  <a:pt x="870" y="753"/>
                </a:cubicBezTo>
                <a:cubicBezTo>
                  <a:pt x="926" y="681"/>
                  <a:pt x="1078" y="680"/>
                  <a:pt x="1132" y="607"/>
                </a:cubicBezTo>
                <a:cubicBezTo>
                  <a:pt x="1186" y="534"/>
                  <a:pt x="1152" y="416"/>
                  <a:pt x="1193" y="315"/>
                </a:cubicBezTo>
                <a:cubicBezTo>
                  <a:pt x="1234" y="214"/>
                  <a:pt x="1339" y="66"/>
                  <a:pt x="1377" y="0"/>
                </a:cubicBezTo>
              </a:path>
            </a:pathLst>
          </a:custGeom>
          <a:noFill/>
          <a:ln w="19080">
            <a:solidFill>
              <a:srgbClr val="008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85080" y="4653000"/>
            <a:ext cx="719280" cy="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153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anonymously in 1855 i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utnam’s Monthly Magazin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ver three issues (October to Decemb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to assuage Melville’s fears of bringing in no money for his fami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-published in Melville’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he Piazza Tal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n 185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ory was mostly ignored; the link betwee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Delano’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as only discovered in 1928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by Scudder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47268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03520" y="4508640"/>
            <a:ext cx="986040" cy="1249200"/>
          </a:xfrm>
          <a:custGeom>
            <a:avLst/>
            <a:gdLst/>
            <a:ahLst/>
            <a:rect l="l" t="t" r="r" b="b"/>
            <a:pathLst>
              <a:path w="621" h="787">
                <a:moveTo>
                  <a:pt x="356" y="0"/>
                </a:moveTo>
                <a:cubicBezTo>
                  <a:pt x="399" y="23"/>
                  <a:pt x="607" y="100"/>
                  <a:pt x="614" y="140"/>
                </a:cubicBezTo>
                <a:cubicBezTo>
                  <a:pt x="621" y="180"/>
                  <a:pt x="458" y="188"/>
                  <a:pt x="398" y="240"/>
                </a:cubicBezTo>
                <a:cubicBezTo>
                  <a:pt x="339" y="292"/>
                  <a:pt x="287" y="390"/>
                  <a:pt x="260" y="455"/>
                </a:cubicBezTo>
                <a:cubicBezTo>
                  <a:pt x="233" y="520"/>
                  <a:pt x="233" y="585"/>
                  <a:pt x="238" y="631"/>
                </a:cubicBezTo>
                <a:cubicBezTo>
                  <a:pt x="243" y="677"/>
                  <a:pt x="305" y="705"/>
                  <a:pt x="291" y="731"/>
                </a:cubicBezTo>
                <a:cubicBezTo>
                  <a:pt x="277" y="757"/>
                  <a:pt x="201" y="787"/>
                  <a:pt x="153" y="785"/>
                </a:cubicBezTo>
                <a:cubicBezTo>
                  <a:pt x="105" y="783"/>
                  <a:pt x="32" y="730"/>
                  <a:pt x="0" y="71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3645000"/>
            <a:ext cx="210960" cy="1968480"/>
          </a:xfrm>
          <a:custGeom>
            <a:avLst/>
            <a:gdLst/>
            <a:ahLst/>
            <a:rect l="l" t="t" r="r" b="b"/>
            <a:pathLst>
              <a:path w="133" h="1240">
                <a:moveTo>
                  <a:pt x="133" y="1240"/>
                </a:moveTo>
                <a:cubicBezTo>
                  <a:pt x="115" y="1183"/>
                  <a:pt x="29" y="1007"/>
                  <a:pt x="23" y="899"/>
                </a:cubicBezTo>
                <a:cubicBezTo>
                  <a:pt x="17" y="791"/>
                  <a:pt x="103" y="699"/>
                  <a:pt x="100" y="591"/>
                </a:cubicBezTo>
                <a:cubicBezTo>
                  <a:pt x="97" y="483"/>
                  <a:pt x="16" y="351"/>
                  <a:pt x="8" y="253"/>
                </a:cubicBezTo>
                <a:cubicBezTo>
                  <a:pt x="0" y="155"/>
                  <a:pt x="43" y="53"/>
                  <a:pt x="52" y="0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3640" y="3573360"/>
            <a:ext cx="282600" cy="801720"/>
          </a:xfrm>
          <a:custGeom>
            <a:avLst/>
            <a:gdLst/>
            <a:ahLst/>
            <a:rect l="l" t="t" r="r" b="b"/>
            <a:pathLst>
              <a:path w="178" h="505">
                <a:moveTo>
                  <a:pt x="178" y="474"/>
                </a:moveTo>
                <a:cubicBezTo>
                  <a:pt x="173" y="443"/>
                  <a:pt x="163" y="345"/>
                  <a:pt x="147" y="290"/>
                </a:cubicBezTo>
                <a:cubicBezTo>
                  <a:pt x="131" y="235"/>
                  <a:pt x="96" y="189"/>
                  <a:pt x="83" y="146"/>
                </a:cubicBezTo>
                <a:cubicBezTo>
                  <a:pt x="70" y="103"/>
                  <a:pt x="82" y="0"/>
                  <a:pt x="68" y="32"/>
                </a:cubicBezTo>
                <a:cubicBezTo>
                  <a:pt x="54" y="64"/>
                  <a:pt x="0" y="267"/>
                  <a:pt x="1" y="336"/>
                </a:cubicBezTo>
                <a:cubicBezTo>
                  <a:pt x="2" y="405"/>
                  <a:pt x="56" y="418"/>
                  <a:pt x="74" y="446"/>
                </a:cubicBezTo>
                <a:cubicBezTo>
                  <a:pt x="92" y="474"/>
                  <a:pt x="102" y="493"/>
                  <a:pt x="109" y="505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04000" y="1989000"/>
            <a:ext cx="2087640" cy="39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Times New Roman"/>
              </a:rPr>
              <a:t>St. Maria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– “a small, desert, uninhabited island toward the southern extremity of the long coast of Chili” (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2405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en-GB" sz="1600" spc="-1" strike="noStrike" u="sng">
                <a:solidFill>
                  <a:srgbClr val="ffffff"/>
                </a:solidFill>
                <a:uFillTx/>
                <a:latin typeface="Times New Roman"/>
              </a:rPr>
              <a:t>2372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Note in Scudder, however: “in the vicinity of the port of Talcahuano” (530) and “the neighbouring coast of Arruco [Arauco]” (516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24240" y="2998800"/>
            <a:ext cx="2185920" cy="2809800"/>
          </a:xfrm>
          <a:custGeom>
            <a:avLst/>
            <a:gdLst/>
            <a:ahLst/>
            <a:rect l="l" t="t" r="r" b="b"/>
            <a:pathLst>
              <a:path w="1377" h="1770">
                <a:moveTo>
                  <a:pt x="15" y="906"/>
                </a:moveTo>
                <a:cubicBezTo>
                  <a:pt x="18" y="961"/>
                  <a:pt x="34" y="1138"/>
                  <a:pt x="33" y="1237"/>
                </a:cubicBezTo>
                <a:cubicBezTo>
                  <a:pt x="32" y="1336"/>
                  <a:pt x="0" y="1423"/>
                  <a:pt x="10" y="1498"/>
                </a:cubicBezTo>
                <a:cubicBezTo>
                  <a:pt x="20" y="1573"/>
                  <a:pt x="32" y="1652"/>
                  <a:pt x="95" y="1690"/>
                </a:cubicBezTo>
                <a:cubicBezTo>
                  <a:pt x="158" y="1728"/>
                  <a:pt x="334" y="1770"/>
                  <a:pt x="387" y="1728"/>
                </a:cubicBezTo>
                <a:cubicBezTo>
                  <a:pt x="440" y="1686"/>
                  <a:pt x="342" y="1551"/>
                  <a:pt x="410" y="1436"/>
                </a:cubicBezTo>
                <a:cubicBezTo>
                  <a:pt x="478" y="1321"/>
                  <a:pt x="717" y="1151"/>
                  <a:pt x="794" y="1037"/>
                </a:cubicBezTo>
                <a:cubicBezTo>
                  <a:pt x="871" y="923"/>
                  <a:pt x="814" y="825"/>
                  <a:pt x="870" y="753"/>
                </a:cubicBezTo>
                <a:cubicBezTo>
                  <a:pt x="926" y="681"/>
                  <a:pt x="1078" y="680"/>
                  <a:pt x="1132" y="607"/>
                </a:cubicBezTo>
                <a:cubicBezTo>
                  <a:pt x="1186" y="534"/>
                  <a:pt x="1152" y="416"/>
                  <a:pt x="1193" y="315"/>
                </a:cubicBezTo>
                <a:cubicBezTo>
                  <a:pt x="1234" y="214"/>
                  <a:pt x="1339" y="66"/>
                  <a:pt x="1377" y="0"/>
                </a:cubicBezTo>
              </a:path>
            </a:pathLst>
          </a:custGeom>
          <a:noFill/>
          <a:ln w="19080">
            <a:solidFill>
              <a:srgbClr val="008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48000" y="5516640"/>
            <a:ext cx="289080" cy="28728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492360" y="2204640"/>
            <a:ext cx="3311640" cy="20890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635280" y="2205000"/>
            <a:ext cx="3168720" cy="33847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4149720"/>
            <a:ext cx="288720" cy="28728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4:37:23Z</dcterms:created>
  <dc:creator>UWA</dc:creator>
  <dc:description/>
  <dc:language>en-US</dc:language>
  <cp:lastModifiedBy>UWA</cp:lastModifiedBy>
  <dcterms:modified xsi:type="dcterms:W3CDTF">2007-11-09T12:17:33Z</dcterms:modified>
  <cp:revision>10</cp:revision>
  <dc:subject/>
  <dc:title>Herman Melville</dc:title>
</cp:coreProperties>
</file>